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6405-300D-4057-9441-ACE7F80D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EA59-20B9-42FE-92D5-7B4794D66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B92-8A3C-4599-8AA4-20A58A84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7FD-02F6-4CE3-9645-C7BBA109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A53-E35A-46B6-96CD-CE8BF301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101-C1A3-424C-B35C-DE4C0C78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3FD-7130-49C6-AAA1-F779EA63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8F4-E300-4EE1-BF7B-11216EC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9C9-0C75-42E6-A376-DF6A688E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359-6A2E-4CFD-9BB1-16723475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222-4AAD-4CFF-8419-5A6564B8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425-F1EB-427F-A70E-9D479407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527-2750-468A-9CFF-458714EE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176-05BA-4DF4-AEB9-4F852B49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8FB7-E214-4A0B-BD7A-C6526A2D22D5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505320" y="3192480"/>
            <a:ext cx="5029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planning f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646280" y="2209680"/>
            <a:ext cx="58672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reanatomy.tif"/>
          <p:cNvPicPr/>
          <p:nvPr/>
        </p:nvPicPr>
        <p:blipFill>
          <a:blip r:embed="rId1"/>
          <a:stretch/>
        </p:blipFill>
        <p:spPr>
          <a:xfrm>
            <a:off x="765000" y="3657600"/>
            <a:ext cx="7635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Language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8" name="Picture 5" descr="MPlangMem.tif"/>
          <p:cNvPicPr/>
          <p:nvPr/>
        </p:nvPicPr>
        <p:blipFill>
          <a:blip r:embed="rId1"/>
          <a:stretch/>
        </p:blipFill>
        <p:spPr>
          <a:xfrm>
            <a:off x="1106640" y="4172040"/>
            <a:ext cx="6541920" cy="255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Panatomy3planes.tif"/>
          <p:cNvPicPr/>
          <p:nvPr/>
        </p:nvPicPr>
        <p:blipFill>
          <a:blip r:embed="rId2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3"/>
          <p:cNvCxnSpPr/>
          <p:nvPr/>
        </p:nvCxnSpPr>
        <p:spPr>
          <a:xfrm flipH="1">
            <a:off x="5092200" y="476100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Straight Arrow Connector 14"/>
          <p:cNvCxnSpPr/>
          <p:nvPr/>
        </p:nvCxnSpPr>
        <p:spPr>
          <a:xfrm flipH="1">
            <a:off x="5149440" y="50101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/>
          <p:nvPr/>
        </p:nvCxnSpPr>
        <p:spPr>
          <a:xfrm flipH="1">
            <a:off x="2725200" y="18763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3392640" y="1646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Pars Triang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5794560" y="4778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Wernicke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3181320" y="42991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Broca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19"/>
          <p:cNvCxnSpPr/>
          <p:nvPr/>
        </p:nvCxnSpPr>
        <p:spPr>
          <a:xfrm flipH="1">
            <a:off x="2725200" y="4219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TextBox 20"/>
          <p:cNvSpPr/>
          <p:nvPr/>
        </p:nvSpPr>
        <p:spPr>
          <a:xfrm>
            <a:off x="5785920" y="43257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Auditory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7" descr="MPanatomy3planes.tif"/>
          <p:cNvPicPr/>
          <p:nvPr/>
        </p:nvPicPr>
        <p:blipFill>
          <a:blip r:embed="rId1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675880" y="17892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Hippo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MPMemlangHippo.tif"/>
          <p:cNvPicPr/>
          <p:nvPr/>
        </p:nvPicPr>
        <p:blipFill>
          <a:blip r:embed="rId2"/>
          <a:stretch/>
        </p:blipFill>
        <p:spPr>
          <a:xfrm>
            <a:off x="1066680" y="4219560"/>
            <a:ext cx="6832800" cy="2506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342000" y="4094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6"/>
          <p:cNvCxnSpPr/>
          <p:nvPr/>
        </p:nvCxnSpPr>
        <p:spPr>
          <a:xfrm>
            <a:off x="3200400" y="4876560"/>
            <a:ext cx="704160" cy="9435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26"/>
          <p:cNvCxnSpPr/>
          <p:nvPr/>
        </p:nvCxnSpPr>
        <p:spPr>
          <a:xfrm>
            <a:off x="3200400" y="2438280"/>
            <a:ext cx="704160" cy="9439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>
            <a:off x="5028480" y="480852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Straight Arrow Connector 10"/>
          <p:cNvCxnSpPr/>
          <p:nvPr/>
        </p:nvCxnSpPr>
        <p:spPr>
          <a:xfrm flipH="1">
            <a:off x="5085720" y="505620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7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600200" y="6060960"/>
            <a:ext cx="67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28480" y="1643040"/>
            <a:ext cx="81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s/p resection of Grade IV 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blood products around surgical bed without enhanc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an the neuroradiologist help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876920" y="3929040"/>
            <a:ext cx="3429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44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tran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90720" y="1633680"/>
            <a:ext cx="7207200" cy="4995720"/>
          </a:xfrm>
          <a:prstGeom prst="rect">
            <a:avLst/>
          </a:prstGeom>
          <a:ln w="0">
            <a:noFill/>
          </a:ln>
        </p:spPr>
      </p:pic>
      <p:sp>
        <p:nvSpPr>
          <p:cNvPr id="95" name="Line 6"/>
          <p:cNvSpPr/>
          <p:nvPr/>
        </p:nvSpPr>
        <p:spPr>
          <a:xfrm flipV="1">
            <a:off x="2286000" y="46382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537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BV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239840" y="1676520"/>
            <a:ext cx="668484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Line 6"/>
          <p:cNvSpPr/>
          <p:nvPr/>
        </p:nvSpPr>
        <p:spPr>
          <a:xfrm flipV="1">
            <a:off x="2600280" y="464796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23Z</dcterms:modified>
  <cp:revision>81</cp:revision>
  <dc:subject/>
  <dc:title>PowerPoint Presentation</dc:title>
</cp:coreProperties>
</file>